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A94-FBA3-4FF9-85F4-5FE2BBF5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1C6-0740-47C4-9547-1AB66C7B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61286-FEA8-4CF0-904E-AA593002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6C6A4-C07C-48F0-B255-8E08194D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7DFE0-FA93-4FF0-8DB7-610285F2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0C5CF-7CDA-4079-8A73-1BF64E25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FE80B-5D15-423F-BC6E-163F4589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C61A4-5236-48C9-9AFB-89BDCDD6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2611B-2407-492E-9AAA-25814266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7B4D9-DDCF-48BF-B5CF-2E1D3450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A2541-85E7-40F2-B178-0EA1D8D8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1A23E-B457-4350-B919-63962628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60E-CBC0-48DD-A1F7-66FF4310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E71DA-E8F9-4F9E-9982-EFB733A2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E95ED-961A-473D-B92D-BA37CF9E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3CAF9-B26F-4139-8903-7C6B97FE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CB50B-9AD8-4C9F-ACD2-435D3062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24E4F-EB11-4113-ABDC-6354ED49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039EF-F1AA-4227-A446-E78A5986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E19EA-8C73-4092-A6BB-86913AED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5C21B-C2E9-41D3-90D9-21F2203A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9ECEC-FE37-426F-AA64-E1CAA07C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B3B63-6DCC-4A2C-87B1-4428EE93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2DC-8D5D-4B85-BC2B-E4F06ADF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56683-6CB2-433B-8425-26930D86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4FB5F-A661-475B-9D2B-C9D6F201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47065-65C2-410E-8FF7-303748D3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ABF6C-25E6-41E6-9B96-697C11F1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15A7F-7682-4CD5-B8B5-1016C456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C8136-3563-4092-93B6-59AEDC10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ED6C6-F680-40DF-9C72-DD73A89C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123FC-2118-4444-947F-6D6908B2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E7495-F722-4719-9466-8409732D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4E1DF-F46D-4933-930C-0AC0B109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C6A5-1F50-41FA-B8D3-4200400F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D8AE0-476F-4B87-B698-AAD6C67F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7357C-6532-40E2-9B2D-41FDDB95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C618C-8DD8-4A17-B5CB-73917275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D6594-159B-41A3-9C7A-76A9C617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D7991-3B39-42EB-858A-62EEA6DF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8012A-A135-4454-A56A-1716468A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0B2F4-B983-4E0F-A6BE-47BC3433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C02A1-5AD0-4A9E-A268-FAA96FBE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5566F-782E-4DBD-92DA-0289FF87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70462-AE95-4F58-9CC2-2C5E32C9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D700-CEF9-42D5-95CA-F2A4FC00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DCC82-66FF-4238-BA31-7CC0C899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17161-A5D1-4B10-9F43-93DA54D3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13554-D899-4883-8C7F-2B189A4A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5BAAC-BE30-4AF0-8782-DC7E6AD6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9DC97-A5E8-4A26-8C6D-071F6DDF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29EDB-AB40-464D-9060-B3224177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CA217-5290-4E9E-8938-9CD73FCD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0CB1F-DBB2-4EF6-ABFE-DAAADE90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7D0A6-2595-41C5-9CCB-A28A7E2D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5BBA1-B3FC-4D02-9B06-F73D240E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26BB-721A-4A36-9323-F0C4A969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9DC1C-CB13-4175-B261-57F7A91E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DE923-657E-4105-B579-7D2C6A4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B2138-8FEA-48A4-873A-E031B689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C4B47-E6AA-4B8B-956A-B276E0E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5B1F7-3CD0-42A5-9A3D-25EE40A7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3863C-125F-4E36-BFD6-C7D449DB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30088-8241-4A0C-8C6E-4BC975C1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E5260-878F-4307-A406-E2F4A373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86ACC-5032-482C-A43C-04EE413F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D1CBC-008A-4F4F-8EED-68A7B8F7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E590-DB4C-404F-B0E9-2BCF4C68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03786-8AA2-4AD5-BDEE-EDEEDE0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F0246-5ABC-4CC6-8E7B-262F46E0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91D48-88A9-4577-B3A5-4586E797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FDA15-4953-459B-BECF-0BC7B60F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59E53-3EF6-475C-B7B4-CA462CA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85420-CEA4-49B1-8266-CB2C4061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5F2C5-0D5B-4761-8A5A-0B8B0F88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0D392-9375-420F-B13C-3531EC04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A2F0D-7DF7-4572-954E-1E38FB45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CF866-DDC8-4938-AD36-641DC3A7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6B8F-803A-4679-8E8B-D998F248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AAC0F-DB94-40ED-8216-3C360D00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BE971-C141-484C-AFBD-3B2EC45E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1F1334-C069-4D75-B395-11F34224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0F51F0-A1F2-40A5-8765-256A9BF0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7B019-2FE4-49B6-8B99-2C3DBBC7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49D9B-2218-4A89-BCFA-1D508817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03C66-1325-4975-A9A8-D28E74AC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F835A-F30D-4EFE-9109-EAB3FE16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0AE6E-2AAE-49E9-BD08-8C8AE892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C6A4F-3C30-446B-9F5E-ECDF3ABA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C396-9E66-4E6A-AD8F-F0DA3F77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275B8-23D9-4BF4-8689-31526F05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72696-C287-4DB6-A74A-8CD56221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BB87D-C163-489A-AB64-B84C0B17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C8E4A-985A-4772-A996-4AE026D8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77B28-C6FE-4354-8A95-0EAF45D8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A5328-6B7E-489E-8E4F-B12DF2B8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9772F-0B85-4EFC-A5B5-970719F5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AEE3D1-0055-4738-9BB9-0DDD8CE5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1248DE-EFF6-4777-A09A-27B55F1A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1C6B1A-7E1B-4E5F-AF05-B39E6E70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02B7-A5AF-4229-A4C0-10620E8E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BD734-E5F5-4787-BF6C-6CE88727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9F61C-4E96-4344-A5E5-3CD6BD62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396FE-7691-482E-9BFA-C385D79C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7FF4EF-414F-4180-A62B-17E3E3EF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81E20-D5F0-4635-BF12-7ACF1022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5FDCA-FF2F-459C-ACE0-ECAB034D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A32880-D7C6-45D9-ADCF-2AD95FE8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210B2-EFDF-45FF-BC24-D59AB8EE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7DB0A-C3A5-463E-9550-C11A706F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856C6-B140-4E0E-85EC-67481773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0CE-89BD-44FF-B9FA-533D526C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252D-B6ED-4F6E-B5F4-EA1F8388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CEDCBD-AEA2-4A9A-8953-28F7D5E6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CDE09F-967B-4D96-9B2C-26443E2C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C7A31-A4B9-4195-BA4D-E697C965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B6DB2-44FF-4070-BECB-DE99E5D8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5D9D17-BB87-4D7B-9EB6-E653F16C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50ED3E-B8F6-4647-8508-22E1867B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13E38-4DB9-4E8E-BEE4-402A84C9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2E5512-B47D-4B2A-B2B6-5F0701B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86732-106C-490B-8D96-D24EBE04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0ACDC2-6EE4-4B21-A122-2E4D100C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8C09-1966-40AC-ACC9-E9721F83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2CD60-53E8-4F2C-BB55-4F151F36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EADF8-FBD8-46FA-8AD8-B990B471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F82D2-600D-45D5-8CC7-AD95896B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87E8F-67AB-4927-B3DF-61F30D7B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1E058-D877-4C05-86A8-C63A388D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A07AA-AB9E-48C7-AE24-464B8E51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BBE18-3E9E-4A85-BFD9-55AE1E77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6EA79-BF77-4E74-AA22-2F3CF53D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89E0F6-7296-49F4-B728-498EDE06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31A36-E0F4-40C8-8EE9-15301546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9E0C-88CF-40E7-BFBC-2C3E03F7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A05E64-574A-4D1E-8156-74BFA649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89A7D-508C-45D7-92CC-7A98D70D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435EE8-5A20-451C-9A09-4D65EC25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8A16C5-3F59-411A-912E-CA0669D6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25C6F9-03A9-48D3-A790-00F48C8A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84484-8C44-4867-8DDB-62BF691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D1973-3FA7-4180-967B-EF3472E8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D68459-98F4-4D82-B002-6952D6DB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9842F2-CA6B-4CFA-A892-F453DE82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4CE019-5BC5-4CC3-B147-E654FF0C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3332-631B-4910-8C58-A9B0C4FF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CD7302-F8E9-4B16-B9D1-66D08214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12736-7F76-406A-96DD-B4F5DC4E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26C271-4B57-4F1C-AE64-5E61DCF4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316CC4-6529-40A7-B467-36FFED9D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A505AE-492E-412F-8B94-04521078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F27D82-D401-4156-90DE-F0B5C7CA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24BBF-A4B8-4653-92C3-4B161FD9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ADDED2-2F8D-4111-98F8-A92D80D8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4489C4-15BD-459D-9583-D07EE040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0E8C4C-7802-4F5C-8197-C02B6913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F605-6BA2-4218-96B4-324306E8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6C80D-9489-461B-880D-9D4370AF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95FB7D-6624-4139-907F-86E098E5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56B8C3-A990-492B-B2C1-3CD80BBE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59139-9565-4D2D-946D-BD9B2189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995416-DBC5-4539-8575-35038110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A582E-ED49-45B5-8122-856B438B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8430E-E7D0-4760-A6AE-3F5CCA11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4EC5AE-90BC-4D61-B0C7-C32D7A27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D3463-D9DC-4FF4-8795-7F291D37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949676-D7BB-45FD-9D86-9BB3BE92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BEEB-EB86-4130-A72C-3E15455A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1D490-95AD-4646-908A-7B41D797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9BAB73-4E09-4A27-A5F9-F36D25CD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9148B2-FE35-411A-8BEC-D83D1A0E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B901-28A1-43B4-B753-1D720A44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676CC-12DE-49D7-8F29-5906FD59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C559A-1BC1-4CF1-85C2-F20BA45B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542E-B7D3-471D-81E3-0D9DB1DA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787-765F-42E1-8AA5-1671A7DC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B140-E8B7-4B73-BA13-87A73173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6672-6CF8-4DA4-9521-66CE47ED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A457-161A-4779-85F7-C6047E1D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83A2D-3594-411D-A1E4-4A24AB7E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0BC0-0F38-40EA-B4B8-677531C3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6970C-1FF4-44CC-A2B5-6FE5F067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56958-C442-4DA7-B59D-79D8060C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F321-B40A-48B2-83EC-1E24B948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0E08-6186-42A3-BF69-6D5E4F48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B208-0704-4EC1-B8B3-31203331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A0C-D210-4ECF-9000-5DD3C468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6618-55A5-4842-8C7B-4843349E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D8A1D-43AA-4F90-BCAB-D6E9F174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3A0B4-3D01-459F-A4FD-8BDF5CD0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D3434-0378-4D8F-8647-2ECEB42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5D3B4-136A-4942-99B2-318E98B0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9105-6FEE-4319-9213-06E64354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5954-0BC1-46F5-8D3D-628F9062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14A80-6A8D-4ACE-904A-B7CCC5BB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3F011-A361-4964-91EC-7AF48857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C9149-838A-4B35-B48A-308D06F7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5AB-F9BB-40F5-B44E-7EC9DB4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C58B1-E682-4E69-9224-E3184C18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A7BD-D543-4911-8D21-67071F29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0CB46-8480-423D-A1C7-671ECE7D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9294F-548E-4264-9C0D-EAA52DEC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8B5A5-754C-4989-82B0-565A6A2E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D3544-8BED-457F-A97A-029D38B7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3939-0A71-44C3-9580-4BF93B80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68F9D-B256-41D9-83F9-E73C385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E0212-8B39-46CF-925C-61C3FDE6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C6B9-DAF7-42BF-A1BE-CADDCB70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894-BBF9-4678-A9C9-0CE51CDD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FB68C-995C-43AB-92DD-13426E77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AC024-8AE4-4FF5-B951-B91F79E8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8F48-AFB2-4EA2-B572-3B3F174F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B18BC-5A1E-43AD-BC65-AFB731B4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E5B70-A1AD-48BD-A22B-738147CB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E7041-8E34-4E98-B4CE-CD069209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5EF8A-25BE-4075-86CA-7DA54F26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DD9BE-45F8-4D46-ADB9-35604CF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9D33E-1696-4627-B300-D63F8FBB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36544-62A0-4000-BB60-06B32655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8B8-AB80-48CC-A223-0E139208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6DBF9-B938-4088-A8A4-F64BA6EE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2E533-BBAC-4763-9671-CBC05416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321C4-B544-49BF-90E2-494A478E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43C69-9C92-4D74-949B-ABA6BF3C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FF0BC-7A94-4C66-939D-CB3172CF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21F29-EA20-41D8-A109-54FC3CE3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CF801-BF97-4CAA-AB37-F88F049A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971D6-1AFC-4882-B5EC-D7173615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3E1A9-A918-4221-B565-94271374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176AA-A645-4223-9D99-8A852619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24A-AD0E-41BC-9922-446B6FC8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41E6B-E501-4C0E-A288-1D27162F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98B12-B204-4CA6-A8E5-A2B3B70A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CFF77-F993-4298-8300-5E6DEC27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C7496-57F8-48F2-913C-459278CB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C142-FA63-4586-B311-991EDAB7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F7BFA-7678-4686-A310-111622D5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720EA-4200-41F9-831B-55C8B6E0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12649-32B8-472C-9904-45FDFF22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6775A-CC6B-4BA9-BC18-D2499520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1F8A9-CBAE-4027-8CC1-F736811D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AE3-A91D-4874-983C-58B2600E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2EA7E-D078-4339-BB39-197D99A7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A906E-283B-42C1-9562-74DA7EC3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E60A3-33BB-4F7E-8C24-1894B912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BDE5D-753A-40EB-B9C8-E933C2B5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59C81-2A09-4C35-96C8-0DBEBC9F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9D263-29CF-4F7C-8051-46C21BAA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3EE4A-418B-4310-B81E-D1F1785C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4CD53-143D-4B16-82E7-853985C6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F841A-CA2C-478E-81C0-11C2EF58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DD90A-113E-4ADB-8CCC-A1DC0C1E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8E24-B072-43E3-8EEB-4495DE0C3F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1700-6339-41E0-B6C8-B5B5D42AB5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C11C-13F1-49EB-94D1-6CEBC34146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CD27-9B61-477C-9DED-143F1C1BD2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B5C7-A76B-4B83-9DE9-3965B26B0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66FF-7854-475D-8150-CE11DA40AF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9F58-D3F1-468C-9F18-B849A8BF63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A0F7-7D89-458A-B088-D286B6C53E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4AF0-DCA3-4A96-90B1-0D62E5AFAF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00E9-8E7B-49A6-B182-B3E6F99A11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E331-E2D7-4436-BC24-6C502C9C74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D714-4EFF-47BB-8CA1-A555E62444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A2ED-1BA4-4195-B3CE-28E9DC7BD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4D09-1B99-4508-9AAD-75327DD50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99DF-74C5-4416-AB57-0C7F8C793C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DD63-AF47-4FA0-A242-4B13D648FA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F08B-28A4-409F-94A0-7591A51E20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21E2-4E88-4B19-8EF2-21F454BDA8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B0F2-6363-4246-99D0-C084DB2531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D729-484D-4050-90DA-444D39491B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5B5E-8990-429F-91CA-34E396D54D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3759-6D3D-410A-B6AB-FC4DACBB3A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EBF0-FF0E-431B-9316-57A761E6C2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5481-2408-43E1-B221-53E82FE573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A3B7-D5A7-42A7-B331-20FA3DFCE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75A7-8BAC-4E7E-8633-A674A3FD1B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F4C5-A197-4A88-BF0B-FE564DB33A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6902-953C-4E4B-9FDF-6ADCD41BAA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9D56-3DFF-4A11-8BDA-7A37960D6E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9E7B-F17D-4392-9530-4880773A26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5EF0-8521-4A14-95FB-61AA52CA4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8965-069D-4562-9835-42EA5D3EB1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879F-AEC6-4FE0-933D-06216625EC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3BA4-643B-4A70-9D43-12B63DB96F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BBE2-37FD-4DFC-AFAA-00A90E098A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49C4-B971-4636-A805-067CA1E6FF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938D-0DEC-4ED3-9FF9-A0350B318C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F6D1-39AE-497D-82FD-44B03DA555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39A1-3733-4140-8F12-3F546BE797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10B9-C8CA-4B93-9F25-597A213224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52480" y="2962440"/>
            <a:ext cx="563904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9633" descr=""/>
          <p:cNvPicPr/>
          <p:nvPr/>
        </p:nvPicPr>
        <p:blipFill>
          <a:blip r:embed="rId1"/>
          <a:stretch/>
        </p:blipFill>
        <p:spPr>
          <a:xfrm>
            <a:off x="309600" y="919080"/>
            <a:ext cx="8524800" cy="5019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971640" y="3573360"/>
            <a:ext cx="4032000" cy="9352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619272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971640" y="5300640"/>
            <a:ext cx="619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23920" y="652320"/>
            <a:ext cx="8696160" cy="5553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050920" y="40482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050920" y="4581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732720" y="4292640"/>
            <a:ext cx="1079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916360" y="5157720"/>
            <a:ext cx="1079280" cy="1008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219640" y="5445000"/>
            <a:ext cx="10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585720" y="1143000"/>
            <a:ext cx="7972560" cy="4572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3635280" y="119700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5580000" y="2333520"/>
            <a:ext cx="43200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7093080" y="170028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2987640" y="33861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4211640" y="42782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6227640" y="4681440"/>
            <a:ext cx="10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585720" y="974880"/>
            <a:ext cx="7972560" cy="5333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1079640" cy="792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164360" y="1844640"/>
            <a:ext cx="792360" cy="993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3419640" y="306864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7380360" y="299736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3492360" y="422100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7380360" y="41497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2771640" y="5300640"/>
            <a:ext cx="1079640" cy="936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7323120" y="5300640"/>
            <a:ext cx="1079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7352" descr=""/>
          <p:cNvPicPr/>
          <p:nvPr/>
        </p:nvPicPr>
        <p:blipFill>
          <a:blip r:embed="rId1"/>
          <a:stretch/>
        </p:blipFill>
        <p:spPr>
          <a:xfrm>
            <a:off x="304920" y="1319040"/>
            <a:ext cx="8534160" cy="4219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7056360" cy="1728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971640" y="4349880"/>
            <a:ext cx="568944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281160" y="1609560"/>
            <a:ext cx="8581680" cy="36388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5473800" cy="1008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1042920" y="4508640"/>
            <a:ext cx="54738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314280" y="1228680"/>
            <a:ext cx="8515440" cy="4400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042920" y="4005360"/>
            <a:ext cx="619308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826920" y="5013360"/>
            <a:ext cx="7561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295200" y="1347840"/>
            <a:ext cx="8553600" cy="4162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5329440" cy="936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971640" y="4522680"/>
            <a:ext cx="532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8572320" cy="6248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684360" y="4653000"/>
            <a:ext cx="7416720" cy="12970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971640" y="6107040"/>
            <a:ext cx="720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33:4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